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802F-8865-4057-A137-31A716455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1564-FBCC-410C-A11F-3778ED7DD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9A0D-5C90-4134-8193-74153162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5A41-894F-43B8-8D42-B7796917A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9210-9502-42AF-A1A1-A1CAA3C9D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734A-275D-46B6-A3EF-CC0EBF6F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7AB5-3E9F-4211-AC8B-DB550B28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E13B-AD9C-4B7C-A957-298464E9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5720-FF48-474A-A1C9-42B9E2CB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BFC9-D32F-47BE-8FD7-D00DF32D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8280-CF71-4940-A5C1-FD7C3986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2101-3D93-41E2-BE60-00AF8CAF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0202-E21C-4E44-AA1B-6BEC34F8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D52F-330D-413D-983C-F9F8B549A1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71280" y="2060640"/>
            <a:ext cx="7777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is mo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, come up with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inim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quirements and write just enough code to satisfy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, avoid “speculative generality”.  page 83 “Refactoring”, by Martin Fow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in JC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in SLF4J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8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953" t="1564" r="953" b="1392"/>
          <a:stretch/>
        </p:blipFill>
        <p:spPr>
          <a:xfrm>
            <a:off x="1042920" y="1773360"/>
            <a:ext cx="734544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Ceki </cp:lastModifiedBy>
  <dcterms:modified xsi:type="dcterms:W3CDTF">2008-09-25T09:35:06Z</dcterms:modified>
  <cp:revision>23</cp:revision>
  <dc:subject/>
  <dc:title>Slf4j &amp; logback projects</dc:title>
</cp:coreProperties>
</file>