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519991"/>
        <c:axId val="3152971"/>
      </c:barChart>
      <c:catAx>
        <c:axId val="2851999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52971"/>
        <c:crosses val="autoZero"/>
        <c:auto val="1"/>
        <c:lblAlgn val="ctr"/>
        <c:lblOffset val="100"/>
        <c:noMultiLvlLbl val="0"/>
      </c:catAx>
      <c:valAx>
        <c:axId val="315297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51999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7D61A-2803-43A0-A6A2-0276E677B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B9E6-58AB-4B23-B33F-D88ED183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5DFA-2F5A-4669-A5F8-D404ACDB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6B70-AEFF-48A4-B75B-025411CCF0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C252-AC7D-4C92-AAE3-3B338B05E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1F73-7CE3-4F43-9F7A-061E99A4B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3E1CD-24FA-43AD-999D-6C68104DA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57499-8958-422D-B051-14461C39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0B2BE-B436-4806-80FA-941AE276E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F4CEE-2A83-4916-B9ED-1D363D48C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ABC9-51D7-4F22-8278-EFBCF797F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987A-E04D-4A51-B905-445AB958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7D4559-5F33-466D-BB44-DC0E401D705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