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65183"/>
        <c:axId val="94098920"/>
      </c:barChart>
      <c:catAx>
        <c:axId val="62165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98920"/>
        <c:crosses val="autoZero"/>
        <c:auto val="1"/>
        <c:lblAlgn val="ctr"/>
        <c:lblOffset val="100"/>
        <c:noMultiLvlLbl val="0"/>
      </c:catAx>
      <c:valAx>
        <c:axId val="94098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65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57D-02C6-4CDE-A2D1-4734B81E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E68-8987-48D0-B864-448BC100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A7E-D126-4C28-8440-7BB50BBC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EEF-951B-40B2-96C7-3E814E48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E72-A41A-4C84-8A6E-348F788C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910-ACFB-44AF-BE9B-64080401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251-E4C9-41FC-9DBE-5640FB65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3C5-1982-4A0C-AB55-B3F20867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E0D0-F2F4-42F6-95B3-5CF19A6A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7B2-022E-4B1C-92AF-8F1452F9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8B1-6130-41F6-A81F-E0554B1F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8EA-55D0-4B9B-A4FF-7EBD50C2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B1FFD-DE1C-40A1-AC74-29FBBCC855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