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0902"/>
        <c:axId val="37585501"/>
      </c:barChart>
      <c:catAx>
        <c:axId val="3970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85501"/>
        <c:crosses val="autoZero"/>
        <c:auto val="1"/>
        <c:lblAlgn val="ctr"/>
        <c:lblOffset val="100"/>
        <c:noMultiLvlLbl val="0"/>
      </c:catAx>
      <c:valAx>
        <c:axId val="37585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0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303-2D65-4CA1-92F9-C5E98802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84C-4513-45D1-97F5-000BBB2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997-38A0-47EF-AE0D-B82D1DB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DD9-8801-4D58-BC2C-35ABD42B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8A6-6C18-4891-A2DA-7C6C08D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635-257A-4032-BF4C-A929CF4A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256-DB2E-411F-BE40-F59F696F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D22-B559-4C33-826B-01F09C82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60A-DF7A-4EF0-9C6B-55CE88AD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BEA-60CD-4AAB-A0EF-EB35B63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05C-AF3B-4389-8986-D540D6BB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1AA-51C9-4889-8D4B-18B4E3F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8FA4D-D83D-4679-8BF1-ADB514125E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