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3780"/>
        <c:axId val="39224489"/>
      </c:barChart>
      <c:catAx>
        <c:axId val="6083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24489"/>
        <c:crosses val="autoZero"/>
        <c:auto val="1"/>
        <c:lblAlgn val="ctr"/>
        <c:lblOffset val="100"/>
        <c:noMultiLvlLbl val="0"/>
      </c:catAx>
      <c:valAx>
        <c:axId val="39224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3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8AD-67F1-4F59-9518-5C68B2FD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6C2-79F1-407A-9195-5C4361B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17C-CE89-472A-B1AD-27BFBF73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3DA-E8DF-4BFB-A0D6-B409552D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693-BE2A-4A46-820A-AB471A8E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72D-C984-47D1-84C6-C54B97F0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C0C-944C-4BF7-83F3-A0A2F139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EAA-18B3-4313-8254-1712B13F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DB8-1EFE-4256-9858-BB40FA3A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D5E-4703-41F2-B7E2-53E8C75C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17D-1A4A-4422-931E-CF11F83D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3F3-E519-4673-B15E-63A850C4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4A398-549D-4206-8E3C-8FB5EF3830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