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28690"/>
        <c:axId val="59308348"/>
      </c:barChart>
      <c:catAx>
        <c:axId val="40228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08348"/>
        <c:crosses val="autoZero"/>
        <c:auto val="1"/>
        <c:lblAlgn val="ctr"/>
        <c:lblOffset val="100"/>
        <c:noMultiLvlLbl val="0"/>
      </c:catAx>
      <c:valAx>
        <c:axId val="59308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28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7BC-4B04-4210-B82A-7AFB7F9A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C36-BD4F-4A59-B92E-6695B6A9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C1E7-F1DB-4963-B5D3-5E3910CB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BEF3-48C5-4520-9801-B3E36B81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3EAD-C935-4420-B486-14641F8D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AFC1-6BDB-4C34-A0E2-483B2829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065A-4B64-4BDB-BC58-DD9BEFCA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9C44-32B8-43CC-8ED1-B911DD6F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86E-E614-430E-955A-500775DB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E551-D886-47BE-89FF-6EC689E8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756-5D89-428F-8667-01126DB5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64B1-A077-4A7E-A540-007B22E1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E0270-28E7-4CF1-B5EA-98F2320102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