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2135"/>
        <c:axId val="84466881"/>
      </c:barChart>
      <c:catAx>
        <c:axId val="5132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66881"/>
        <c:crosses val="autoZero"/>
        <c:auto val="1"/>
        <c:lblAlgn val="ctr"/>
        <c:lblOffset val="100"/>
        <c:noMultiLvlLbl val="0"/>
      </c:catAx>
      <c:valAx>
        <c:axId val="84466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2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47A-1582-4B57-BD56-20039B9A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E6C-7BD6-4DEE-8EFE-5E39DBE5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03C-3D45-49D1-A542-0FA8C640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8CF-FBEE-4F9D-B104-E025361C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268-2B4F-4D79-867B-DB8FD595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918-30E5-48FA-8445-36CBE4DE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063-CB0E-4CA7-B915-EDAA83A9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C44-4569-4AD7-A30B-0AEE1907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86C-2618-4D19-B627-E6BB81B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45C-865C-4A98-80DA-F740B8E2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F8B-4F3D-4AAC-B762-5A554937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5F3-9B8F-4A7E-8319-7F6EDABD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DC0F3-E07D-48CD-BB71-6AED2E2F86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