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1917"/>
        <c:axId val="39136825"/>
      </c:barChart>
      <c:catAx>
        <c:axId val="71351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36825"/>
        <c:crosses val="autoZero"/>
        <c:auto val="1"/>
        <c:lblAlgn val="ctr"/>
        <c:lblOffset val="100"/>
        <c:noMultiLvlLbl val="0"/>
      </c:catAx>
      <c:valAx>
        <c:axId val="39136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1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FEF-49B9-4468-95DE-39BF138E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9B8-21B8-48DA-ACC2-0656E9A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0B7-4AA8-4D66-8EEE-D9F057D9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9D0-0620-40DE-9EC6-E6240A6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758-56CB-4C23-B06A-A26A6BD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F79-50AD-44AD-A13B-AF7EA81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81A-3F88-49EF-9D6A-B3D87A7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57F-18C5-42EF-A2AD-AE82725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538-FE9C-4397-BA36-73C2F29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736-E1EC-45F5-A146-C83CB30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C7B-517F-4AE0-AE78-ED508E3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38B-679A-40C2-8FEB-06B40164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B4EA-B5F2-48A2-B42C-A760F3F2DE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