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317140"/>
        <c:axId val="47907559"/>
      </c:barChart>
      <c:catAx>
        <c:axId val="553171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907559"/>
        <c:crosses val="autoZero"/>
        <c:auto val="1"/>
        <c:lblAlgn val="ctr"/>
        <c:lblOffset val="100"/>
        <c:noMultiLvlLbl val="0"/>
      </c:catAx>
      <c:valAx>
        <c:axId val="479075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3171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55A4-65E6-451C-B223-4AF575A5E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7806-F324-4650-B254-CEDD9D1DF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0925-7B51-4AF2-9660-633B79F97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C9EF-E3D6-4A75-BE93-410A09763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8660-A7A3-474B-872B-6DA19148F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7738-8F54-4462-B18B-ED1E0E547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5201-A796-44E3-8228-25161E483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0721-EF47-4C02-8E7B-30AE0F074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34E8-5598-4865-A750-5C3ACD7C3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4640-645D-46B0-BAC0-2DD6E296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2D3B-DB6E-4496-A86E-727E2471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1ABA-77BF-432C-BA16-84C889B3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BD1139-2C9C-47CE-B35C-BEDF11E8563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