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92555"/>
        <c:axId val="27410594"/>
      </c:barChart>
      <c:catAx>
        <c:axId val="96492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0594"/>
        <c:crosses val="autoZero"/>
        <c:auto val="1"/>
        <c:lblAlgn val="ctr"/>
        <c:lblOffset val="100"/>
        <c:noMultiLvlLbl val="0"/>
      </c:catAx>
      <c:valAx>
        <c:axId val="27410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2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194-5C47-4B76-AF6B-5CDF2388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89A-2915-4D65-B1A2-728AD6C6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085-B1CE-489E-9E44-73AAB789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FF5-E4CD-4275-8514-A1CEBCC9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7C8-0862-4123-9693-C76BB085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7A0-6982-4EA3-BFC7-FC7494B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56F-1EFB-4DC5-A0A6-1B39009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BBB-40A8-41E9-B057-BF19CDD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FC2-7F49-4C68-BF7E-8B70D34D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102-0C3C-44ED-88ED-A7E9D9B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80C-B563-4F8F-884D-19B484D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990-DEC6-4A70-815B-E1341B1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5F83-AA7F-4CE7-B103-AD55BDF840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