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80157"/>
        <c:axId val="13239062"/>
      </c:barChart>
      <c:catAx>
        <c:axId val="94280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39062"/>
        <c:crosses val="autoZero"/>
        <c:auto val="1"/>
        <c:lblAlgn val="ctr"/>
        <c:lblOffset val="100"/>
        <c:noMultiLvlLbl val="0"/>
      </c:catAx>
      <c:valAx>
        <c:axId val="13239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80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7C5-D2B4-4351-991F-535A3300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BFE-C01E-4F65-9BB4-0D8A4DE5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503-94B5-4743-820B-A88B68AD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E2C-CA45-4118-B755-292F0C56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F1B-4F65-42F2-9DB1-F032498E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E36-252B-4C4A-888E-B407F927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56E-F5BE-4168-9B54-74E8793B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3DA-4815-4099-923A-4B6E1D27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C53-A3CC-4FC8-8E3F-BB3C9DBD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877-7DA4-4B16-BC46-5B21E055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3E4-DADD-4886-9A4B-79F17221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5C2-D811-4E4C-AF6E-F4659CE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82511-3A97-4C3E-9D22-F003C3D5EE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