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83299"/>
        <c:axId val="39960332"/>
      </c:barChart>
      <c:catAx>
        <c:axId val="23983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60332"/>
        <c:crosses val="autoZero"/>
        <c:auto val="1"/>
        <c:lblAlgn val="ctr"/>
        <c:lblOffset val="100"/>
        <c:noMultiLvlLbl val="0"/>
      </c:catAx>
      <c:valAx>
        <c:axId val="39960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83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B95-AC93-4A81-8478-F2441025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D05-A257-496E-9481-71C9519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BCD-965D-4DD9-8C8C-E5E0884B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4EC-0613-4893-B69C-DEE8E25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739-2E47-4EBC-9026-D603A05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C40-A136-4181-B5BF-8F08609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2FC-ADA8-4EE9-A295-F40C62A5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C48-72B6-4880-A555-F73A672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9C0-2232-43A4-B71B-73CC7C5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7C2-C1A5-44A8-970E-8960637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8B8-FBC3-4F92-B151-6CA9302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C12-8053-40F0-8F1E-7A61D1F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89982-4989-422F-8490-C36C3B66DF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