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35401"/>
        <c:axId val="9111523"/>
      </c:barChart>
      <c:catAx>
        <c:axId val="56735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1523"/>
        <c:crosses val="autoZero"/>
        <c:auto val="1"/>
        <c:lblAlgn val="ctr"/>
        <c:lblOffset val="100"/>
        <c:noMultiLvlLbl val="0"/>
      </c:catAx>
      <c:valAx>
        <c:axId val="9111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35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40F-8798-4108-8C4F-CFE91AE1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440-0C39-447C-BAFC-7ECF00EA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E63-3C61-42BA-BA86-65E58ECF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B86-2358-45B3-A1F9-A717AFF0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70A-CCA5-4898-967A-7BF10A22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813-F068-4141-90D2-E179C22F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D9D-225B-4435-93DB-EE5F1FD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54A-342C-4367-8A37-2B9EF25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79E-7F8E-44A8-A96A-75A0C9DB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332-B8A6-41BA-A9D3-7C2C651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24A-6D05-4954-8986-736B2FD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DA2-795B-4FD7-8746-3EC1C8F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1AB50-E5EE-47E8-A2A1-94E210EB33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