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03510"/>
        <c:axId val="18316061"/>
      </c:barChart>
      <c:catAx>
        <c:axId val="651035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16061"/>
        <c:crosses val="autoZero"/>
        <c:auto val="1"/>
        <c:lblAlgn val="ctr"/>
        <c:lblOffset val="100"/>
        <c:noMultiLvlLbl val="0"/>
      </c:catAx>
      <c:valAx>
        <c:axId val="183160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035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7E7B-F755-47AF-BB29-B32A5707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82FC-90B7-4575-9BFA-A674CED8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E22B-4192-421F-851F-F0AE435B2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6A39-EDA9-47F1-AB87-C6BE2F653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AB1-DC01-4DEE-9752-25FF4C030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BF41-65DB-44ED-879B-29D9DFBC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92C2-53E5-44E7-A945-E19B110C1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5E6F-6E7F-4087-A90E-7F130D13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16CD-783E-4E37-9D91-B1C1F72AE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6791-800D-4CB2-8E05-BB971F52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1F0B-3BDE-466A-B4E2-96018F50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0EE5-B89F-44AA-B0FE-BFB4AEF7F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375A69-6674-44E9-A2F1-16E2324EFE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