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85581"/>
        <c:axId val="34840996"/>
      </c:barChart>
      <c:catAx>
        <c:axId val="84685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40996"/>
        <c:crosses val="autoZero"/>
        <c:auto val="1"/>
        <c:lblAlgn val="ctr"/>
        <c:lblOffset val="100"/>
        <c:noMultiLvlLbl val="0"/>
      </c:catAx>
      <c:valAx>
        <c:axId val="34840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85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26D-3A7F-4DF6-AC17-43A52D5F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71A0-C288-4F8E-9B07-7F91349C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9C4-D1CD-4CD5-AC89-E0C2C2F7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1EAD-0368-4A0A-9D2B-DC6C0382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3F0-7ABA-4A85-B7D9-174C1061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4EF-B67C-460D-ACEB-6461DAE2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F74-28F1-4E56-BF88-E5AE72DE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508-1E8F-41E1-A5AE-35D68C58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44F-A73A-4F49-91C5-7A18542E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865-6462-4A7A-A575-0B858CD5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B6F-B76F-43A6-A408-FAF6055C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700-61AF-4BB9-A98A-F567A80B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736F0-7241-42D0-9F87-0AA25D8BFD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