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30466"/>
        <c:axId val="15085172"/>
      </c:barChart>
      <c:catAx>
        <c:axId val="19630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85172"/>
        <c:crosses val="autoZero"/>
        <c:auto val="1"/>
        <c:lblAlgn val="ctr"/>
        <c:lblOffset val="100"/>
        <c:noMultiLvlLbl val="0"/>
      </c:catAx>
      <c:valAx>
        <c:axId val="15085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30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F9B-6D7B-4F55-BA0A-5FDD64AA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1D8-CC79-4F02-A99B-FBD9F984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0DB-9F8F-4D66-9936-FFFF4AD7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148-5706-480C-9F8D-39F50D06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DF40-3638-420C-A0BF-2CFAC410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795-ECA9-4D9C-965C-8FEE686F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8288-D472-47A9-B0EA-A674B22D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2684-3924-4FC0-A5F2-FD86A025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59B-4211-455E-8C07-9A6AB7DA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8DE8-4C25-4918-A128-89745701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6D3-B881-4B35-BB0B-578A38B9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4ABB-1A31-4880-AA3A-3D89E4FD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F4FFD-6406-4BCD-9AA4-55E7E750E8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