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40621"/>
        <c:axId val="39638824"/>
      </c:barChart>
      <c:catAx>
        <c:axId val="44440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8824"/>
        <c:crosses val="autoZero"/>
        <c:auto val="1"/>
        <c:lblAlgn val="ctr"/>
        <c:lblOffset val="100"/>
        <c:noMultiLvlLbl val="0"/>
      </c:catAx>
      <c:valAx>
        <c:axId val="39638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40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3533-4D10-4242-B238-45F49DA1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7DC-6D54-4407-BCCA-58D55A8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4C0-8A88-4506-9AC2-B215527F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324-821D-46CE-B71F-DB1C662A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9E2-85C6-4DC8-8BFE-44D25897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1C7-1F3C-4AE9-88D7-1C336789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12C-52A6-45CA-A1AC-75F3196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773-A5DC-4B18-8F4E-F47C2A55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695-0590-4613-8C7A-D772F947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F99-B98D-4242-AF0D-3240A63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74B-9509-4583-A7DF-AD3BECC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0BE-0C89-4D10-B136-F677CB6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935CF-DF6D-4757-B0C6-4D8AE6A39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