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37980"/>
        <c:axId val="94631101"/>
      </c:barChart>
      <c:catAx>
        <c:axId val="25937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31101"/>
        <c:crosses val="autoZero"/>
        <c:auto val="1"/>
        <c:lblAlgn val="ctr"/>
        <c:lblOffset val="100"/>
        <c:noMultiLvlLbl val="0"/>
      </c:catAx>
      <c:valAx>
        <c:axId val="94631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37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282-F255-40E0-ABAC-F8B207C9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5FB-A93D-4A2D-B0E7-AE972652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143-034B-4B35-AB4D-5FB7553D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1E8-D0E1-4C7E-B820-899F46FE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6A7-48EC-4355-93A5-95569117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BF1-0284-4FA7-B70D-10B90F0F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A7F-0BA9-41C2-A58F-E808BD7C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6E7-9B5D-4A8C-A88C-46C9CFBE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F80-E0FE-4CF8-B2A4-D1AE39A6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AAB-6444-46E1-AEF6-B079FE74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3F7-AB54-4058-82A1-01DDF921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63F-9D2B-40F4-BCD1-E65F45FD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27157-8690-4914-9BDA-E12A845177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