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37280"/>
        <c:axId val="68147258"/>
      </c:barChart>
      <c:catAx>
        <c:axId val="70537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47258"/>
        <c:crosses val="autoZero"/>
        <c:auto val="1"/>
        <c:lblAlgn val="ctr"/>
        <c:lblOffset val="100"/>
        <c:noMultiLvlLbl val="0"/>
      </c:catAx>
      <c:valAx>
        <c:axId val="68147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37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50D-DD02-4027-AD14-FD90E510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31E-22F8-4770-B277-53568FB6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EFF-256E-445D-8D51-E4C7996C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243-A594-4D08-9F1F-05B38F7B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913-2F86-4A88-B0C0-85905427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DFA-E000-4194-B704-49FE4041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FC5-60C9-412D-A1E2-A130B09B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3D0-32A5-4257-A580-5469F9AB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5D2-3B79-43BC-9838-06937F86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C81-DB6C-4C26-A764-A1BD6C59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FBA-F58C-4C9E-9FC5-2716699C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5C0-C035-47CE-907B-46C92D59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2FA75-BA0B-46DE-A1A6-CFF1C4A53D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