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0188"/>
        <c:axId val="89741755"/>
      </c:barChart>
      <c:catAx>
        <c:axId val="2900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41755"/>
        <c:crosses val="autoZero"/>
        <c:auto val="1"/>
        <c:lblAlgn val="ctr"/>
        <c:lblOffset val="100"/>
        <c:noMultiLvlLbl val="0"/>
      </c:catAx>
      <c:valAx>
        <c:axId val="89741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0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F72-376A-4444-B717-BE2DB42A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E81-0E00-49F2-A112-E89FEEBE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084A-BB08-4A8D-93B5-C8307EA6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7F3-A738-434E-B8A2-A07E2E2C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3F1-6792-4DC2-B535-BE820981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07E-31B6-449A-B8C4-2D65E273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6EB-681E-46FD-B7F7-8DDB95BF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229-2488-4BAA-826E-E27736BE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59F-FD1E-4AFD-8B51-D4ACF568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353-D085-437B-A7BB-250BA263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686-B2CA-44FF-9D8E-4A4608C1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B2C-BBC0-4CDA-9C1D-7FBC1889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78595-EFCE-46F3-813E-70EACE19CE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