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2483"/>
        <c:axId val="73054398"/>
      </c:barChart>
      <c:catAx>
        <c:axId val="5042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54398"/>
        <c:crosses val="autoZero"/>
        <c:auto val="1"/>
        <c:lblAlgn val="ctr"/>
        <c:lblOffset val="100"/>
        <c:noMultiLvlLbl val="0"/>
      </c:catAx>
      <c:valAx>
        <c:axId val="73054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2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938-7323-4324-AEE5-110B7A94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BC3-54EF-418A-8953-73CC2EE5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B51-C4E9-4741-8C7D-1005041D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473-EC0A-4541-8E50-8369EA61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334-3EE4-4E95-B4C9-2A9CDC1E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AED-DF19-44F8-82EC-C17B39B2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18B-209B-4F5D-A448-BC2A8F4B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C60-1155-4880-8469-A4038AE1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BFA-DCF9-4B7A-8BFD-A1DAA697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0B9-FA22-4DC2-BD8B-0A5AB69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1005-995A-43B5-99D8-46C6049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DED-C620-4F92-B2AF-18E09005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93ABA-9A4C-4FBA-BB8D-C86CDEF796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