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98188"/>
        <c:axId val="71526944"/>
      </c:barChart>
      <c:catAx>
        <c:axId val="30098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26944"/>
        <c:crosses val="autoZero"/>
        <c:auto val="1"/>
        <c:lblAlgn val="ctr"/>
        <c:lblOffset val="100"/>
        <c:noMultiLvlLbl val="0"/>
      </c:catAx>
      <c:valAx>
        <c:axId val="71526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98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E99-99D2-493C-AA44-77A52EE8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9F4-CC2B-4CCD-A033-241396D3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572-8410-49B8-AC06-C980A995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5AF-15C6-47BD-833E-BB2384F1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455-CA86-4041-BA45-FEBA15AF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0C2-D1D4-48AA-BEBD-C180A72C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1DD-4B9E-421A-8C84-2DC11C04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EC2-EB61-414D-9AE3-2AB3C1AF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57B-CC7F-4E2E-998D-52D84EB7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5B9-472A-45B3-884F-F013F1DC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9F6-4BA3-45E5-BF55-38E77542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1B5-B2EF-4061-987E-FFA239D7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8EBE6-9918-4F28-9292-1BB86AD280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