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52431"/>
        <c:axId val="75928202"/>
      </c:barChart>
      <c:catAx>
        <c:axId val="32252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28202"/>
        <c:crosses val="autoZero"/>
        <c:auto val="1"/>
        <c:lblAlgn val="ctr"/>
        <c:lblOffset val="100"/>
        <c:noMultiLvlLbl val="0"/>
      </c:catAx>
      <c:valAx>
        <c:axId val="75928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52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D89-9F33-48D3-9124-63E4BCBE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9C2-7791-497B-9437-AC0CCA48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633-05C3-48CB-8D4B-8FE53382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B69-4636-4E5B-94DE-011220A5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963-C840-4D01-8557-D28D301A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90A-A2B7-4C7B-8703-5F740B1C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BF4-E219-4056-92EE-F91D7B61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764-9671-40A8-BB9A-CA072921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314-0D40-42C8-91F1-ED1334D7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602-1050-4B0A-AFBB-ED618114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45E-74FE-40C8-B24B-0A969DB1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D2B-208D-4376-B2BA-C6D62D0C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A4C2E-4920-473F-A643-1ADA022FD7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