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20358"/>
        <c:axId val="99210265"/>
      </c:barChart>
      <c:catAx>
        <c:axId val="72820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10265"/>
        <c:crosses val="autoZero"/>
        <c:auto val="1"/>
        <c:lblAlgn val="ctr"/>
        <c:lblOffset val="100"/>
        <c:noMultiLvlLbl val="0"/>
      </c:catAx>
      <c:valAx>
        <c:axId val="99210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20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F2A-2E4E-4D39-BFD8-539932E4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311-CA8D-4D67-9D33-3711DC4B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387-5DC5-461A-A71B-51545A26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845-0AB5-4BA9-88DC-414565CE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A29-F61F-4D57-887D-338F9BA6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E29-6168-4055-B4EF-7C4E2384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FD9-FC22-4F02-8203-B071E314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7D18-AD1E-44E4-A700-090BD341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F52-3BB9-414F-BE69-BCB446F6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9EC-B259-47D8-97E3-E790D036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047-F729-4340-9DED-DDB6C816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A75-B1FC-4BB4-9BD9-8C0B3E11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249BA-3975-40B3-8A4F-9A097D6599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