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08502"/>
        <c:axId val="78904681"/>
      </c:barChart>
      <c:catAx>
        <c:axId val="53508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04681"/>
        <c:crosses val="autoZero"/>
        <c:auto val="1"/>
        <c:lblAlgn val="ctr"/>
        <c:lblOffset val="100"/>
        <c:noMultiLvlLbl val="0"/>
      </c:catAx>
      <c:valAx>
        <c:axId val="78904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08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152-EADF-4730-971C-D2222E43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FF2-F464-42D4-9D83-1ECBDB5A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8A1-8DF6-4A54-A613-C0F2CAE3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67B-0DAF-4D03-93CF-A64F63C4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4F9-D3D8-4A7C-876F-CDC248C3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0B4-FDA0-45B5-9F2D-CB86C1E1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036-ED35-45CF-B6C0-94565DA9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C1A-2228-4D73-AFFA-42AE5147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6DD0-C50D-4CD3-BCF6-7899082C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271-1FF8-4502-A973-F5FE8A33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9D2-CBFF-4442-9722-E0C054CA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EAF-B84F-4039-B7CD-0945DB20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3C0AF-2318-4810-999C-F7F71BE917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