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39028"/>
        <c:axId val="98779858"/>
      </c:barChart>
      <c:catAx>
        <c:axId val="14939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79858"/>
        <c:crosses val="autoZero"/>
        <c:auto val="1"/>
        <c:lblAlgn val="ctr"/>
        <c:lblOffset val="100"/>
        <c:noMultiLvlLbl val="0"/>
      </c:catAx>
      <c:valAx>
        <c:axId val="98779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39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EAE-D8F8-44A2-AC95-E7936575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C27-51F1-4162-98F5-628C26D4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A87-E069-4AE4-9E17-82E2D1EB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5EF-A0CC-45DB-9951-7A76CE82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624-7B2F-48CB-8F9E-F859091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ACB-1CC3-4E3E-8BE6-344B3733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9DD-E7EA-441C-904E-47080424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37D-AA4D-4BDB-8CF6-351A1532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52E-774A-4073-A05F-C6B1F6D6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0CB-3F90-45CD-A225-C1DB6FFE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6A9-6DF0-4DE1-B413-6342E2A0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961-E9CA-4AF2-90D7-3CD97F7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1276E-3C6C-4C35-8C73-88E39D9EB7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