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31584"/>
        <c:axId val="85279139"/>
      </c:barChart>
      <c:catAx>
        <c:axId val="77531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79139"/>
        <c:crosses val="autoZero"/>
        <c:auto val="1"/>
        <c:lblAlgn val="ctr"/>
        <c:lblOffset val="100"/>
        <c:noMultiLvlLbl val="0"/>
      </c:catAx>
      <c:valAx>
        <c:axId val="85279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31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05A-1577-4EBF-B665-91101AD4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DC6-E28A-4D2C-B4F9-700564C6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0A6-ABBC-4703-B2FC-BB6EDFC8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C7F-06F6-45E8-A5F6-97F80C0F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55C-F1CF-4038-BE0C-2C5777DC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88C-4C0D-4B2D-A584-CB4FAC4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BDD-87BE-4599-8DD4-4B01AB8B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A29-B208-4CBE-AB39-7B58D4C9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B0C-5D7E-44EA-8022-B25B6833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790-1401-4910-BF38-6B80AF3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20C-D156-4AA7-BC01-3DAC20E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CA4-948D-4EBB-9B93-406BAF1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F2AC6-9476-426F-BDCA-F82C0EB6C5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