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39425"/>
        <c:axId val="54616949"/>
      </c:barChart>
      <c:catAx>
        <c:axId val="88039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16949"/>
        <c:crosses val="autoZero"/>
        <c:auto val="1"/>
        <c:lblAlgn val="ctr"/>
        <c:lblOffset val="100"/>
        <c:noMultiLvlLbl val="0"/>
      </c:catAx>
      <c:valAx>
        <c:axId val="54616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39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B39-DEA9-4172-893C-2BF85B33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AB8-9E2F-4618-A2AE-F14367D3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741-BCBA-433D-BA9E-A001D35A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E10-9357-4F98-946E-778E8D59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C72-B5F0-461C-ABB8-850E2AD3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06D-7B06-4791-845D-E8DC1B0D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03E-6357-4905-9F34-D3EB775D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868-F675-4A94-9610-8B008183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57F-1713-49D1-930B-862D082D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7AE-3C23-47B4-B747-D6D615BA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82A-12DB-45BB-9CEF-7F04C94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CB7-99D3-4D03-A933-C03002C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041A8-D9F8-4DEF-B879-2D689088D2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