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93988"/>
        <c:axId val="97755494"/>
      </c:barChart>
      <c:catAx>
        <c:axId val="14993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5494"/>
        <c:crosses val="autoZero"/>
        <c:auto val="1"/>
        <c:lblAlgn val="ctr"/>
        <c:lblOffset val="100"/>
        <c:noMultiLvlLbl val="0"/>
      </c:catAx>
      <c:valAx>
        <c:axId val="97755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93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C7C-A6DC-4B9D-B481-F9C534A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048-0443-473B-92DB-68A34EC0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D48-2560-472A-931F-FFF4AFCF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4E1-A542-421F-A11E-BAAFB4EB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C33-5155-478D-932B-C7E44B8B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6A3-4AAB-453C-981A-D70730C4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CDD-EDC9-41E9-AE09-B9AAE40E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192-5162-4385-91B3-FD5FA5B5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C7A-C1C5-4BC4-8FBB-D6F04007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337-4F2F-45EE-8310-CB1CC4A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1F6-2FCE-4BB8-A095-FDF8EDF3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0D9-2D81-4CF7-A98E-87AB327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AAD9D-A4C1-47D7-8BE3-76FA34BB90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