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00143"/>
        <c:axId val="56887634"/>
      </c:barChart>
      <c:catAx>
        <c:axId val="70900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87634"/>
        <c:crosses val="autoZero"/>
        <c:auto val="1"/>
        <c:lblAlgn val="ctr"/>
        <c:lblOffset val="100"/>
        <c:noMultiLvlLbl val="0"/>
      </c:catAx>
      <c:valAx>
        <c:axId val="56887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00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BE8-EB68-4711-84E6-0707BF63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930-DC8E-44FB-84EF-21CA9AE7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00A-A502-429E-AAF4-093A97D2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E68-4983-43D9-AA91-E08D7FDC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F7F-ECD7-4B40-AEA7-50E0DC0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7C7-9EEA-48A3-8AF7-3AA9832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C32-3B87-48EE-8B53-DB60CC8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7E7-6352-403D-B3A6-229E341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7E9-F063-4CEF-BA2A-F4BA60FD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90B-3A83-4CA9-9D38-3B61E6B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EB3-7C94-4E63-8F0D-6FE3EF2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70C-CB3B-478B-9132-C849016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0116F-770D-4EAF-B402-28D07F0F2F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