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272061"/>
        <c:axId val="11215911"/>
      </c:barChart>
      <c:catAx>
        <c:axId val="462720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15911"/>
        <c:crosses val="autoZero"/>
        <c:auto val="1"/>
        <c:lblAlgn val="ctr"/>
        <c:lblOffset val="100"/>
        <c:noMultiLvlLbl val="0"/>
      </c:catAx>
      <c:valAx>
        <c:axId val="112159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2720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97A7-A430-4E40-8514-46E661779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72E8-DB76-4FC8-99F2-95627D9D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E34C-FCD2-4004-9F58-148A8793E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3B5B-0048-4E06-8474-DB283E186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0B6A-C2E1-4695-9E87-C3E54DDA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F7DA-7B37-44AD-87F1-075770D9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5411-533C-430F-8864-4A423EB5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C8D8-CA3E-4FCD-9B11-3DBE1E78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7DF0-7C8D-4934-BFB4-AD54061D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59B2-6266-4F38-9F8E-E66EA925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A1D4-DEDA-4D2F-BCC2-34E21B13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7051-CD57-44BA-A423-857410E4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36AAC-1310-4828-8084-9621389A2E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