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44264"/>
        <c:axId val="95629800"/>
      </c:barChart>
      <c:catAx>
        <c:axId val="17444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9800"/>
        <c:crosses val="autoZero"/>
        <c:auto val="1"/>
        <c:lblAlgn val="ctr"/>
        <c:lblOffset val="100"/>
        <c:noMultiLvlLbl val="0"/>
      </c:catAx>
      <c:valAx>
        <c:axId val="95629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4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657-9E70-47A9-941E-3CC74A65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66C-7B08-41B6-8C4A-B411D5B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B65-FEE3-450B-A5FA-F67B589B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967-576E-4B16-A979-6F7EC64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D86-1B76-468C-B897-010B6897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6D0-A44E-4B34-B041-441F5C0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892-2ACB-450C-BE59-E082C2BE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FD5-F2B1-49CA-A156-0CB6446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50F-C6E3-4862-91DC-287750E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D0B-7945-4915-A757-825C29D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AEE-EEC2-4F75-B5C4-7B21C40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A83-47D3-4A50-8D95-304D2945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43C6B-31DA-4D31-802F-891FEE0573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