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38800"/>
        <c:axId val="66560913"/>
      </c:barChart>
      <c:catAx>
        <c:axId val="94438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60913"/>
        <c:crosses val="autoZero"/>
        <c:auto val="1"/>
        <c:lblAlgn val="ctr"/>
        <c:lblOffset val="100"/>
        <c:noMultiLvlLbl val="0"/>
      </c:catAx>
      <c:valAx>
        <c:axId val="665609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38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615E-BA9F-46B7-92C8-2EE15AF9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349-8616-45D9-8646-9251BF60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E99B-37C2-4D54-A333-4D349976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89BB-B10D-4CB2-89B0-29AD97E5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C09F-4AAE-4EBF-86B1-FFA70CFC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AD27-D271-46FA-B4BE-CF54513B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6507-7C05-4D61-9218-0307E956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5B9-BE19-429F-A903-ED21542D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12C5-2A85-45C2-8151-2A00067A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0561-4769-4B27-832C-41EFE9D8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5C35-6A78-46A6-9EDB-B9342647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2CC-A8A7-4637-9225-7FD15ED4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2733A-D315-49AF-9153-F9716D5DCF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