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426973"/>
        <c:axId val="37572726"/>
      </c:barChart>
      <c:catAx>
        <c:axId val="36426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72726"/>
        <c:crosses val="autoZero"/>
        <c:auto val="1"/>
        <c:lblAlgn val="ctr"/>
        <c:lblOffset val="100"/>
        <c:noMultiLvlLbl val="0"/>
      </c:catAx>
      <c:valAx>
        <c:axId val="37572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26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F18-1B36-4000-9928-55D678AD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8CC-5B9C-4DDF-9EAE-7D95B5BE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81B-6AC7-4AF4-8212-CB7265AD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77D-4DA0-4F2D-8A37-B14C4F2A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171-DD25-486C-ABB6-2B9F9E5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F76-DE81-42AF-8517-9BF0C9CD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480-B287-4E32-827B-071B4FC1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AE9-5FD4-4947-A828-F0858A3D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BF2-2573-4B6F-8D37-6EAB8812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4F8-7C7F-4975-80CB-E5D8B8E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BB7-EFB9-4CBC-BA5B-0BDD756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BE3-5A2E-4199-8610-315DF1FB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1E906-DFEF-4B6F-B41C-C3F108B019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