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539664"/>
        <c:axId val="64915997"/>
      </c:barChart>
      <c:catAx>
        <c:axId val="165396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915997"/>
        <c:crosses val="autoZero"/>
        <c:auto val="1"/>
        <c:lblAlgn val="ctr"/>
        <c:lblOffset val="100"/>
        <c:noMultiLvlLbl val="0"/>
      </c:catAx>
      <c:valAx>
        <c:axId val="649159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5396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DC58-2042-43C8-A42C-567320B25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2494-6FA5-40CC-9FC2-6B34BEFF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265F-E9CB-4872-B642-B5BCA8693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DDCD-D13A-4150-B435-AB411DD85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0ABB-A77A-4C23-AB6C-A4BFF2D7E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7D1C-60EA-414B-8369-B35CFC9D1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9EB4-385D-4C1A-9288-1172C18F5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4314-853C-4255-AF77-DF77EC12F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84C4-8791-4538-A8B9-9B423A2C6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BA7C-29BE-400D-9DAF-5FB014F7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C91F-251E-403C-AAFA-DABC791A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EF41-7A1F-46EC-BFBC-C8134043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3E45D7-6D57-4602-B20C-E43203C7A4C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