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319747"/>
        <c:axId val="41543101"/>
      </c:barChart>
      <c:catAx>
        <c:axId val="923197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543101"/>
        <c:crosses val="autoZero"/>
        <c:auto val="1"/>
        <c:lblAlgn val="ctr"/>
        <c:lblOffset val="100"/>
        <c:noMultiLvlLbl val="0"/>
      </c:catAx>
      <c:valAx>
        <c:axId val="415431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3197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290E-4256-4E25-BD2E-8827F6BFA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DB99-E6B2-40C2-8652-1033E0CE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3FCA-BFDD-4F00-AC03-ADC0A276B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F4E9-E0BA-4A06-8160-94EF3ED8E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5031-78A3-47BC-9CC8-57856157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3618-AC3E-44A1-A4B0-50EA60C3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9582-D6FC-4403-BE85-E62C1063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1BA1-0142-4171-A7BE-499AF980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876B-0953-4B11-8433-10764B74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D7BE-920D-4122-9270-051CEF0F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03B4-A40E-4420-9B70-D070E8AE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1F39-221F-428E-A8A6-25CE5DAC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24A89-115B-4A7D-90AC-B463D62846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